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2984"/>
        <c:axId val="80274768"/>
      </c:barChart>
      <c:catAx>
        <c:axId val="1202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74768"/>
        <c:crosses val="autoZero"/>
        <c:auto val="1"/>
        <c:lblAlgn val="ctr"/>
        <c:lblOffset val="100"/>
        <c:noMultiLvlLbl val="0"/>
      </c:catAx>
      <c:valAx>
        <c:axId val="80274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2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8A9-29A1-4539-AA64-E6F5B136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B34-56A0-4A4D-9C6A-31EE01C7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1A2-721E-463B-86C1-AFCF15F1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20E-A9CB-450D-830A-CC5782E5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1CA-56DB-45CE-8618-4FE16193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740-C76C-48F5-B87C-A0BF7475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234-7E06-4DD4-9B66-4F61BFE5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7B7-A5A3-4044-A48A-322FCF27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8F8-340D-4A17-8C49-7708276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377-067C-4584-BB59-82062BA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CA3-4276-4639-B0A6-D5B6351C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11F-E3A8-45F1-B1ED-EB73EBA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E3E61-ADF7-4C3F-B1A9-6A55905AEC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